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2AE8-6320-441A-B4FB-525A485C56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сновы законодательства РФ об охране здоровья граждан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презент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E022-B259-487C-B5A1-F1AB5F7CA9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Частная система здравоохран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част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бно-профилактические и аптечные учреждения, имущество которых находится в частной собственности, а также лица, занимающиеся частной медицинской практикой и частной фармацевтической деятель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936C-7EEE-49DB-AD63-2A4530519F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I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ПРАВА ГРАЖДАН В ОБЛАСТИ ОХРАНЫ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ждане РФ обладают неотъемлемым правом на охрану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о право обеспечивается охраной окружающей природной среды, созданием благоприятных условий труда, быта, отдыха, воспитания и обучения граждан, производством и реализацией доброкачественных продуктов питания, а также предоставлением населению доступной медико-социальн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5072-EE87-4FDE-9D96-C1557B6345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обеспечивает гражданам охрану здоровья независимо от пола, расы, национальности, языка, социального происхождения, должностного положения, места жительства, отношения к религии, убеждений, принадлежности к общественным объединениям, а также других обстоя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гарантирует гражданам защиту от любых форм дискриминации, обусловленной наличием у них каких-либо заболе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EB10-81D9-4CFE-928E-84C4DB2044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граждан на медико-социаль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болевании, утрате трудоспособности и в иных случаях граждане имеют право на медико-социальную помощь, которая включает профилактическую, лечебно-диагностическую, реабилитационную, протезно-ортопедическую и зубопротезную помощь, а также меры социального характера по уходу за больными, нетрудоспособными и инвалидами, включая выплату пособия по временной нетрудо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социальная помощь оказывается медицинскими, социальными работниками и иными специалистами в учреждениях государственной, муниципальной и частной систем здравоохранения, а также в учреждениях системы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имеют право на бесплатную медицинскую помощь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96B5-261D-4A19-9187-56CA470CDB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 ПРАВА ОТДЕЛЬНЫХ ГРУПП НАСЕЛЕНИЯ В ОБЛА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Ы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ражданин имеет право по медицинским показаниям на бесплатные консультации по вопросам планирования семьи, наличия социально значимых заболеваний и заболеваний, представляющих опасность для окружающих, по медико-психологическим аспектам семейно-брачных отношений, а также на медико-генетические, другие консультации и обследования в учреждениях государственной или муниципальной системы здравоохранения с целью предупреждения возможных наследственных заболеваний у потом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BE7E-DC00-40B3-8C12-67C97696CA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ава беременных женщин и матер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обеспечивает беременным женщинам право на работу в условиях, отвечающих их физиологическим особенностям и состоянию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щины во время беременности и в связи с рождением ребенка, а также во время ухода за больными детьми в возрасте до 15 лет имеют право на получение пособия и оплачиваемого отпуска в установленном законом поряд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E0AA-8952-4C3A-9BDB-E0F2073080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ансерное наблюдение и лечение в детской и подростковой службах в порядке, устанавливаемом Министерством здравоохранения РФ, министерствами здравоохранения республик в составе РФ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социальную помощь и питание на льготных условиях, устанавливаемых Правительством РФ, за счет средств бюджетов всех уровн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образование, на обучение и труд в условиях, отвечающих их физиологическим особенностям и состоянию здоровья и исключающих воздействие на них неблагоприятных фактор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атную медицинскую консультацию за счет средств бюджетов всех уровней при определении профессиональной пригод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необходимой информации о состоянии здоровья в доступной для них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9BCB-FCA6-4038-8F3F-7F46B46F2F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военнослужа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ослужащие имеют право на медицинское освидетельствование для определения годности к военной службе и досрочное увольнение с военной службы на основании заключения военно-врачебной коми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ослужащие, граждане, подлежащие призыву на военную службу и поступающие на военную службу по контракту, имеют право на получение медицинской помощи в учреждениях государственной или муниципальной системы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EA37-1729-40EF-8BF9-3988C54B08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граждан пожил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пожилого возраста имеют право на медико-социальную помощь на дому, в учреждениях государственной или муниципальной системы здравоохранения, а также в учреждениях системы социальной защиты населения и на лекарственное обеспечение, в том числе на льготных условиях. Медико-социальная помощь гражданам пожилого возраста направлена на лечение имеющихся у них заболеваний и уход, поддержание их активного образа жизни и социальную защиту в случае болезни и неспособности удовлетворять свои основные жизненные потреб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пожилого возраста на основании медицинского заключения имеют право на санаторно-курортное лечение и реабилитацию бесплатно или на льготных условиях за счет средств социального страхования, органов социальной защиты населения и за счет средств предприятий, учреждений и организаций при их согла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6922-DFB4-40C1-B343-956C996828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инвал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алиды, в том числе дети-инвалиды и инвалиды с детства, имеют право на медико-социальную помощь, реабилитацию, обеспечение лекарствами, протезами, протезно-ортопедическими изделиями, средствами передвижения на льготных условиях, а также на профессиональную подготовку и переподготов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рудоспособные инвалиды имеют право на бесплатную медико-социальную помощь в учреждениях государственной или муниципальной системы здравоохранения, на уход на дому, а в случае неспособности удовлетворять основные жизненные потребности - на содержание в учреждениях системы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C740-3285-4AE9-9C78-06D0EBC4F59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F0C4-7F0B-41D7-BDFA-567D83D834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V ПРАВА ГРАЖДАН ПРИ ОКАЗАНИИ МЕДИКО-СОЦИАЛЬНОЙ ПОМОЩ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важительное и гуманное отношение со стороны медицинского и обслуживающего персон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следование, лечение и содержание в условиях, соответствующих санитарно-гигиеническим требован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ение по его просьбе консилиума и консультаций других специалис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едицинских и иных услуг в рамках программ добровольного медицинского страх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нарушения прав пациента он может обращаться с жалобой непосредственно к руководителю или иному должностному лицу лечебно-профилактического учреждения, в котором ему оказывается медицинская помощь, в соответствующие профессиональные медицинские ассоциации и лицензионные комиссии либо в с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F468-B3F5-42AE-86E9-EAA775F2E4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аво граждан на информацию о состоянии здоровья</a:t>
            </a:r>
            <a:br>
              <a:rPr sz="1000"/>
            </a:br>
            <a:br>
              <a:rPr sz="16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ражданин имеет право в доступной для него форме получить имеющуюся информацию о состоянии своего здоровья, включая сведения о результатах обследования, наличии заболевания, его диагнозе и прогнозе, методах лечения, связанном с ними риске, возможных вариантах медицинского вмешательства, их последствиях и результатах проведенн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DD7C-0CA4-4A77-8D64-E1E9DAC8BE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VII ГАРАНТИИ ОСУЩЕСТВЛЕНИЯ МЕДИКО-СОЦИАЛЬНОЙ ПОМОЩИ ГРАЖДАН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наиболее распространенных болезней, а также травм, отравлений и других неотложных состоя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санитарно-гигиенических и противоэпидемических мероприятий, медицинской профилактики важнейших заболе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образ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мер по охране семьи, материнства, отцовства и детства, других мероприятий, связанных с оказанием медико-санитарной помощи гражданам по месту жи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B4EA-643F-4777-8B17-08EACB76CD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ор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рая медицинская помощь оказывается гражданам при состояниях, требующих срочного медицинского вмешательства (при несчастных случаях, травмах, отравлениях и других состояниях и заболеваниях), осуществляется безотлагательно лечебно-профилактическими учреждениями независимо от территориальной, ведомственной подчиненности и формы собственности, медицинскими работниками, а также лицами, обязанными ее оказывать в виде первой помощи по закону или по специальному прав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F8DD-0818-4C91-BD5B-91E96BB5E3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 оказывается гражданам при заболеваниях, требующих специальных методов диагностики, лечения и использования сложных медицински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 оказывается за счет средств бюджетов всех уровней, целевых фондов, предназначенных для охраны здоровья граждан, личных средств граждан и других источников, не запрещенных законодательством РФ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C40F-053A-42AE-A41E-03FD7DC501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Что такое охрана здоров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азовите основные задачи законодательства РФ об охране здоровья гражд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азовите три уровня на которых осуществляется здравоохранение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Что относится к Государствен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Что относится к Муниципаль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Что относится к Част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Каким неотъемлемым правом обладают граждане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еречислите основные группы населения, которые обладают правами в области охран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Назовите три основных права па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еречислите три гарантированных вида осуществления медико-социальн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9E0B-1EC7-4F65-B81F-A367793E3C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I ОБЩИЕ ПОЛОЖЕНИЯ</a:t>
            </a: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храна здоровья гражд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а здоровья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совокупность мер политического, экономического, правового, социального, культурного, научного, медицинского, санитарно-гигиенического и противоэпидемического характера, направленных на сохранение и укрепление физического и психического здоровья каждого человека, поддержание его долголетней активной жизни, предоставление ему медицинской помощи в случае утрат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5FFC-6E32-4E7C-B660-4E1BD71285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сновные принципы охраны здоровья граждан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прав человека и гражданина в области охраны здоровья и обеспечение связанных с этими правами государственных гарант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 профилактических мер в области охраны здоровья гражда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медико-социальной помощ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защищенность граждан в случае утраты здоровь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органов государственной власти и управления, предприятий, учреждений и организаций независимо от формы собственности, должностных лиц за обеспечение прав граждан в области охран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581E-70FE-4D1F-920A-B24CFC58E0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законодательства РФ об охране здоровья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тветственности и компетенции РФ, республик в составе РФ, автономной области, автономных округов, краев, областей, городов Москвы и Санкт-Петербурга по вопросам охраны здоровья граждан в соответствии с Федеративным договором, а также определение ответственности и компетенции органов местного самоуправления по вопросам охраны здоровья гражда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вое регу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бласти охраны здоровья граждан деятельности предприятий, учреждений и организаций независимо от формы собственности, а также государственной, муниципальной и частной систем здравоохра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ение прав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дельных групп населения в области охраны здоровья и установление гарантий их соблю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ение профессиональных пра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язанностей и ответственности медицинских и фармацевтических работников, установление гарантий их социальной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AEBA-E6C7-4151-826E-79712C15A0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II ОРГАНИЗАЦИЯ ОХРАНЫ ЗДОРОВЬЯ ГРАЖДАН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бюджетов всех уровн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, направляемые на обязательное и добровольное медицинское страхование в соответствии с Законом РФ "О медицинском страховании граждан в РФ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целевых фондов, предназначенных для охраны здоровья граж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государственных и муниципальных предприятий, организаций и других хозяйствующих субъектов, общественных объедин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ценных бум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банков и других креди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озмездные и (или) благотворительные взносы и пожертв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источники, не запрещенные законода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D702-8F50-4DBE-B571-F3971031E9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дравоохранение в РФ осуществляется на трех уровн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ниципаль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B9A9-17F2-4FA6-96CE-70AEBC1A6A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Государственная система здравоохран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государствен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ерство здравоохранения РФ, органы управления здравоохранением субъектов в составе РФ, Российская академия медицинских наук, Государственный комитет санитарно-эпидемиологического надзора РФ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6305-5204-4ED9-8A4F-F79BDBD288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ниципальная система здравоохра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муниципаль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ниципальные органы управления здравоохранением и находящиеся в муниципальной собственности лечебно-профилактические и научно-исследовательские учреждения, фармацевтические предприятия и организации, аптечные учреждения, учреждения судебно-медицинской экспертизы, образовательные учреж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224B-10C2-4E5B-8C67-E56434913D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49F-FAB0-43A9-B048-C97A17C9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DCC-67F1-4FF6-8122-9817AFE7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BAF-986F-4789-9AF8-49C7403F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4D58-DCB9-4E0E-8357-3934A895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0902-8D99-4073-A1AB-451A7A91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4A98-6E02-4842-8716-7E14E190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E96-ADAF-4CD8-9BF5-DABB15B4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9BA8-AFD1-48AD-B6A4-1DCFCB2E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540B-2A6C-42F0-88B0-CBB710D9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C56E-04F8-4703-8A35-382A4DBF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C3A5-61B6-415A-9B80-04D9BB81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7DD-05C7-436D-BA8E-64938A03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FD20-A70E-4334-A566-EA22A0AF87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«Основы законодательства РФ об охране здоровья гражданин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ема презентац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Частная система здравоохран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 частной системе здравоохранения относя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лечебно-профилактические и аптечные учреждения, имущество которых находится в частной собственности, а также лица, занимающиеся частной медицинской практикой и частной фармацевтической деятель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470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I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ПРАВА ГРАЖДАН В ОБЛАСТИ ОХРАНЫ ЗДОРОВЬ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раждане РФ обладают неотъемлемым правом на охрану здоровь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Это право обеспечивается охраной окружающей природной среды, созданием благоприятных условий труда, быта, отдыха, воспитания и обучения граждан, производством и реализацией доброкачественных продуктов питания, а также предоставлением населению доступной медико-социальной помощ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58000" y="1412280"/>
            <a:ext cx="49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аво граждан РФ на охрану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обеспечивает гражданам охрану здоровья независимо от пола, расы, национальности, языка, социального происхождения, должностного положения, места жительства, отношения к религии, убеждений, принадлежности к общественным объединениям, а также других обстоятель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гарантирует гражданам защиту от любых форм дискриминации, обусловленной наличием у них каких-либо заболеван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о граждан на медико-социальную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заболевании, утрате трудоспособности и в иных случаях граждане имеют право на медико-социальную помощь, которая включает профилактическую, лечебно-диагностическую, реабилитационную, протезно-ортопедическую и зубопротезную помощь, а также меры социального характера по уходу за больными, нетрудоспособными и инвалидами, включая выплату пособия по временной нетрудоспособ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ико-социальная помощь оказывается медицинскими, социальными работниками и иными специалистами в учреждениях государственной, муниципальной и частной систем здравоохранения, а также в учреждениях системы социальной защиты нас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имеют право на бесплатную медицинскую помощь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V ПРАВА ОТДЕЛЬНЫХ ГРУПП НАСЕЛЕНИЯ В ОБЛАСТ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ОХРАНЫ ЗДОРОВЬ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ждый гражданин имеет право по медицинским показаниям на бесплатные консультации по вопросам планирования семьи, наличия социально значимых заболеваний и заболеваний, представляющих опасность для окружающих, по медико-психологическим аспектам семейно-брачных отношений, а также на медико-генетические, другие консультации и обследования в учреждениях государственной или муниципальной системы здравоохранения с целью предупреждения возможных наследственных заболеваний у потом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016280" y="1264680"/>
            <a:ext cx="25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а сем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беременных женщин и матерей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обеспечивает беременным женщинам право на работу в условиях, отвечающих их физиологическим особенностям и состоянию здоровь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нщины во время беременности и в связи с рождением ребенка, а также во время ухода за больными детьми в возрасте до 15 лет имеют право на получение пособия и оплачиваемого отпуска в установленном законом поряд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рава несовершеннолетних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спансерное наблюдение и лечение в детской и подростковой службах в порядке, устанавливаемом Министерством здравоохранения РФ, министерствами здравоохранения республик в составе РФ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дико-социальную помощь и питание на льготных условиях, устанавливаемых Правительством РФ, за счет средств бюджетов всех уровней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нитарно-гигиеническое образование, на обучение и труд в условиях, отвечающих их физиологическим особенностям и состоянию здоровья и исключающих воздействие на них неблагоприятных факторов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сплатную медицинскую консультацию за счет средств бюджетов всех уровней при определении профессиональной пригодност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ение необходимой информации о состоянии здоровья в доступной для них форм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военнослужащих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80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еннослужащие имеют право на медицинское освидетельствование для определения годности к военной службе и досрочное увольнение с военной службы на основании заключения военно-врачебн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исс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еннослужащие, граждане, подлежащие призыву на военную службу и поступающие на военную службу по контракту, имеют право на получение медицинской помощи в учреждениях государственной или муниципальной системы здравоохран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граждан пожилого возраст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пожилого возраста имеют право на медико-социальную помощь на дому, в учреждениях государственной или муниципальной системы здравоохранения, а также в учреждениях системы социальной защиты населения и на лекарственное обеспечение, в том числе на льготных условиях. Медико-социальная помощь гражданам пожилого возраста направлена на лечение имеющихся у них заболеваний и уход, поддержание их активного образа жизни и социальную защиту в случае болезни и неспособности удовлетворять свои основные жизненные потреб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пожилого возраста на основании медицинского заключения имеют право на санаторно-курортное лечение и реабилитацию бесплатно или на льготных условиях за счет средств социального страхования, органов социальной защиты населения и за счет средств предприятий, учреждений и организаций при их согла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инвалид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Инвалиды, в том числе дети-инвалиды и инвалиды с детства, имеют право на медико-социальную помощь, реабилитацию, обеспечение лекарствами, протезами, протезно-ортопедическими изделиями, средствами передвижения на льготных условиях, а также на профессиональную подготовку и переподготовку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етрудоспособные инвалиды имеют право на бесплатную медико-социальную помощь в учреждениях государственной или муниципальной системы здравоохранения, на уход на дому, а в случае неспособности удовлетворять основные жизненные потребности - на содержание в учреждениях системы социальной защиты населения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7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8680" y="90720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 ОБЩИЕ ПО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94320" y="1412280"/>
            <a:ext cx="74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I ОРГАНИЗАЦИЯ ОХРАНЫ ЗДОРОВЬЯ ГРАЖДАН В Р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0" y="1915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ПРАВА ГРАЖДАН В ОБЛАСТИ ОХРАНЫ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2349000"/>
            <a:ext cx="88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V ПРАВА ОТДЕЛЬНЫХ ГРУПП НАСЕЛЕНИЯ В ОБЛАСТИ ОХРАНЫ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0" y="3068280"/>
            <a:ext cx="87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 ПРАВА ГРАЖДАН ПРИ ОКАЗАНИИ МЕДИКО-СОЦИАЛЬНОЙ ПОМОЩ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37159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I МЕДИЦИНСКАЯ ДЕЯТЕЛЬНОСТЬ ПО ПЛАНИРОВАНИЮ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ЕМЬИ И РЕГУЛИРОВАНИЮ РЕПРОДУКТИВНОЙ ФУНКЦИИ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443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II ГАРАНТИИ ОСУЩЕСТВЛЕНИЯ МЕДИКО-СОЦИАЛЬНОЙ ПОМОЩИ ГРАЖДАНА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85680" y="5157000"/>
            <a:ext cx="51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МЕДИЦИНСКАЯ ЭКСПЕРТИ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46080" y="5589000"/>
            <a:ext cx="75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X ПРАВА И СОЦИАЛЬНАЯ ЗАЩИТА МЕДИЦИНСКИ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АРМАЦЕВТИЧЕСКИХ РАБОТНИК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35880" cy="13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V ПРАВА ГРАЖДАН ПРИ ОКАЗАНИИ МЕДИКО-СОЦИАЛЬНОЙ ПОМОЩ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уважительное и гуманное отношение со стороны медицинского и обслуживающего персонал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обследование, лечение и содержание в условиях, соответствующих санитарно-гигиеническим требованиям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проведение по его просьбе консилиума и консультаций других специалистов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олучение медицинских и иных услуг в рамках программ добровольного медицинского страхования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случае нарушения прав пациента он может обращаться с жалобой непосредственно к руководителю или иному должностному лицу лечебно-профилактического учреждения, в котором ему оказывается медицинская помощь, в соответствующие профессиональные медицинские ассоциации и лицензионные комиссии либо в суд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64200" y="1131840"/>
            <a:ext cx="278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ва пациент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Право граждан на информацию о состоянии здоровья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гражданин имеет право в доступной для него форме получить имеющуюся информацию о состоянии своего здоровья, включая сведения о результатах обследования, наличии заболевания, его диагнозе и прогнозе, методах лечения, связанном с ними риске, возможных вариантах медицинского вмешательства, их последствиях и результатах проведенного леч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VII ГАРАНТИИ ОСУЩЕСТВЛЕНИЯ МЕДИКО-СОЦИАЛЬНОЙ ПОМОЩИ ГРАЖДАНАМ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746000"/>
            <a:ext cx="867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чение наиболее распространенных болезней, а также травм, отравлений и других неотложных состоя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дение санитарно-гигиенических и противоэпидемических мероприятий, медицинской профилактики важнейших заболева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нитарно-гигиеническое образов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дение мер по охране семьи, материнства, отцовства и детства, других мероприятий, связанных с оказанием медико-санитарной помощи гражданам по месту житель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59560" y="1006920"/>
            <a:ext cx="66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рвичная медико-санитарная помощ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корая медицинская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Скорая медицинская помощь оказывается гражданам при состояниях, требующих срочного медицинского вмешательства (при несчастных случаях, травмах, отравлениях и других состояниях и заболеваниях), осуществляется безотлагательно лечебно-профилактическими учреждениями независимо от территориальной, ведомственной подчиненности и формы собственности, медицинскими работниками, а также лицами, обязанными ее оказывать в виде первой помощи по закону или по специальному правилу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пециализированная медицинская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изированная медицинская помощь оказывается гражданам при заболеваниях, требующих специальных методов диагностики, лечения и использования сложных медицинских технолог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изированная медицинская помощь оказывается за счет средств бюджетов всех уровней, целевых фондов, предназначенных для охраны здоровья граждан, личных средств граждан и других источников, не запрещенных законодательством РФ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613080" y="-360"/>
            <a:ext cx="2881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Arial"/>
              </a:rPr>
              <a:t>Тест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Что такое охрана здоровь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Назовите основные задачи законодательства РФ об охране здоровья гражд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Назовите три уровня на которых осуществляется здравоохранение в Р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Что относится к Государствен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Что относится к Муниципаль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Что относится к Част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Каким неотъемлемым правом обладают граждане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 Перечислите основные группы населения, которые обладают правами в области охраны здоровь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 Назовите три основных права паци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. Перечислите три гарантированных вида осуществления медико-социальной помощ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I ОБЩИЕ ПОЛОЖЕНИЯ</a:t>
            </a:r>
            <a:br>
              <a:rPr sz="2400"/>
            </a:b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Охрана здоровья граждан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77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храна здоровья гражда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это совокупность мер политического, экономического, правового, социального, культурного, научного, медицинского, санитарно-гигиенического и противоэпидемического характера, направленных на сохранение и укрепление физического и психического здоровья каждого человека, поддержание его долголетней активной жизни, предоставление ему медицинской помощи в случае утраты здоров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Основные принципы охраны здоровья граждан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блюдение прав человека и гражданина в области охраны здоровья и обеспечение связанных с этими правами государственных гарантий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ритет профилактических мер в области охраны здоровья граждан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ступность медико-социальной помощ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циальная защищенность граждан в случае утраты здоровь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ственность органов государственной власти и управления, предприятий, учреждений и организаций независимо от формы собственности, должностных лиц за обеспечение прав граждан в области охраны здоров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Задачи законодательства РФ об охране здоровья граждан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ение ответственности и компетенции РФ, республик в составе РФ, автономной области, автономных округов, краев, областей, городов Москвы и Санкт-Петербурга по вопросам охраны здоровья граждан в соответствии с Федеративным договором, а также определение ответственности и компетенции органов местного самоуправления по вопросам охраны здоровья граждан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авовое регулирова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области охраны здоровья граждан деятельности предприятий, учреждений и организаций независимо от формы собственности, а также государственной, муниципальной и частной систем здравоохран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ение прав гражда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тдельных групп населения в области охраны здоровья и установление гарантий их соблюд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ение профессиональных пра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бязанностей и ответственности медицинских и фармацевтических работников, установление гарантий их социальной защи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II ОРГАНИЗАЦИЯ ОХРАНЫ ЗДОРОВЬЯ ГРАЖДАН В РФ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бюджетов всех уровн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, направляемые на обязательное и добровольное медицинское страхование в соответствии с Законом РФ "О медицинском страховании граждан в РФ"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целевых фондов, предназначенных для охраны здоровья гражда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государственных и муниципальных предприятий, организаций и других хозяйствующих субъектов, общественных объединен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ходы от ценных бумаг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едиты банков и других кредитор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звозмездные и (или) благотворительные взносы и пожертв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ые источники, не запрещенные законодательством Р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70440" y="981000"/>
            <a:ext cx="55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инансирование охраны здоровья гражд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209160" y="1484280"/>
            <a:ext cx="79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чниками финансирования охраны здоровья граждан являются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Здравоохранение в РФ осуществляется на трех уровнях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осударственны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униципальны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астны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50752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Государственная система здравоохран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 государственной системе здравоохранения относя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инистерство здравоохранения РФ, органы управления здравоохранением субъектов в составе РФ, Российская академия медицинских наук, Государственный комитет санитарно-эпидемиологического надзора Р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Муниципальная система здравоохране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 муниципальной системе здравоохранения относятс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униципальные органы управления здравоохранением и находящиеся в муниципальной собственности лечебно-профилактические и научно-исследовательские учреждения, фармацевтические предприятия и организации, аптечные учреждения, учреждения судебно-медицинской экспертизы, образовательные учрежд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6:39:45Z</dcterms:created>
  <dc:creator>Рома</dc:creator>
  <dc:description/>
  <dc:language>en-US</dc:language>
  <cp:lastModifiedBy>LEGION</cp:lastModifiedBy>
  <dcterms:modified xsi:type="dcterms:W3CDTF">2015-01-28T11:29:53Z</dcterms:modified>
  <cp:revision>7</cp:revision>
  <dc:subject/>
  <dc:title>«Основы законодательства РФ об охране здоровья гражданина»</dc:title>
</cp:coreProperties>
</file>